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2C7-8F03-4252-B426-5E59BCCD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58F-6197-45A8-9D70-1C1A1F14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404-48F0-4FBB-8532-66FACD27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BB7-6068-44F0-8E8B-49F840C7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8F6-011E-41A1-87E7-DA542BF5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2F3-27C5-488A-8639-966B5934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76A-AF5F-4E92-8011-4E36BDB0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740-C40B-4AC5-A14E-5487954C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08F-790F-4FE2-A4BE-4DF2C520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4D0-A947-46A9-AAFA-31E7A278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4D8-C585-47F6-9983-DBF1E78A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E53-EE1D-46CF-B731-770708E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8E9B-5BC8-427C-9AD3-EB8F9086618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09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5.20091112.p4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09-12-29T08:31:51Z</dcterms:modified>
  <cp:revision>85</cp:revision>
  <dc:subject/>
  <dc:title>投影片 1</dc:title>
</cp:coreProperties>
</file>